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83CE-FF9F-4619-9879-03DB4594359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4240-F6E7-481F-A46C-5DDB9BFFF27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F9C4-0A52-4436-9006-F1ACE0D4C2D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4AF1-F2E0-41E9-87A6-E5F4180B13D2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8915-9693-4850-A2D9-215A7A45F0A3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D179-7750-4D5D-A558-FA3EC03B8B8D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9F53-A204-4F5E-8DE5-8D782BD8D60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6BF9-E32E-4B54-A9D6-97BF1AE40280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9226-BD45-4B60-9949-B7BA0127E84C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0BED-8381-49CB-956F-F57320D739A1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790E-1B48-4A37-A1F6-0CF2005DE6B1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F4BDE-853A-417F-8139-FA8325DDF9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A2C87-C8D3-462C-8731-6F547174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05194-8832-4323-9C7A-4FCA44ED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F7477-0755-4004-A7CB-88D460B94C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4C311-B093-455A-B2CA-11051C47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1B08C-9EDE-47F7-BA17-73389D13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87266-2C61-4DAE-AC77-B8DC39F9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AC3FB-1860-411F-BB57-DFA8B82A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0C2C3-26AC-46BF-B390-366D5357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CFED6-F89B-49BE-8255-8C129AB2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EDD89-3E96-498D-A2B3-F0D31805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649CE-559B-4E91-8668-AE7AD9A0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A9FB8-C500-483F-B0D0-3972E9A4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4DCDC-A965-4441-8440-FC8BFFE1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0AC20-FCEC-4A2B-863C-9114D0DC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12E6B-007B-4FBE-A939-5FEE1B0D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65A0A-8668-48B0-B584-30F535C1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CDD01-1F2D-4CCA-A535-7C2810B2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13693-B6CE-4B75-8358-122978B5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8F82E-72D3-45CF-A897-70D6B516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A824E-7B1D-4A84-92C5-D6840DA4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B534-89EF-4E31-9C6C-FA699085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951FF-65ED-491E-8645-FA472FD6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782DE-36FE-4E13-A73D-9B5AA6FC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C2D1-799B-49D6-82B0-D8EB464C4C7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896A-C95F-4BEE-B9EF-9D397DD103D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章 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管理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许丽娟  延边大学护理学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质量管理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511920" y="1468440"/>
            <a:ext cx="7228800" cy="4768560"/>
            <a:chOff x="511920" y="1468440"/>
            <a:chExt cx="7228800" cy="4768560"/>
          </a:xfrm>
        </p:grpSpPr>
        <p:sp>
          <p:nvSpPr>
            <p:cNvPr id="225" name="圆角矩形 26"/>
            <p:cNvSpPr/>
            <p:nvPr/>
          </p:nvSpPr>
          <p:spPr>
            <a:xfrm>
              <a:off x="1705320" y="2898000"/>
              <a:ext cx="6035400" cy="333900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圆角矩形 27"/>
            <p:cNvSpPr/>
            <p:nvPr/>
          </p:nvSpPr>
          <p:spPr>
            <a:xfrm>
              <a:off x="2025360" y="3040920"/>
              <a:ext cx="5453280" cy="29736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圆角矩形 30"/>
            <p:cNvSpPr/>
            <p:nvPr/>
          </p:nvSpPr>
          <p:spPr>
            <a:xfrm>
              <a:off x="2143440" y="3103920"/>
              <a:ext cx="5240160" cy="281016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对构成护理质量的各要素进行计划、组织、协调和控制，以保证护理工作达到规定的标准和满足服务对象需要的活动过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8" name="Group 8"/>
            <p:cNvGrpSpPr/>
            <p:nvPr/>
          </p:nvGrpSpPr>
          <p:grpSpPr>
            <a:xfrm>
              <a:off x="511920" y="1468440"/>
              <a:ext cx="3511440" cy="1452960"/>
              <a:chOff x="511920" y="1468440"/>
              <a:chExt cx="3511440" cy="1452960"/>
            </a:xfrm>
          </p:grpSpPr>
          <p:sp>
            <p:nvSpPr>
              <p:cNvPr id="229" name="任意多边形 23"/>
              <p:cNvSpPr/>
              <p:nvPr/>
            </p:nvSpPr>
            <p:spPr>
              <a:xfrm>
                <a:off x="1152360" y="2719440"/>
                <a:ext cx="775440" cy="20196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任意多边形 22"/>
              <p:cNvSpPr/>
              <p:nvPr/>
            </p:nvSpPr>
            <p:spPr>
              <a:xfrm>
                <a:off x="887760" y="2241360"/>
                <a:ext cx="600840" cy="54216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" name="任意多边形 21"/>
              <p:cNvSpPr/>
              <p:nvPr/>
            </p:nvSpPr>
            <p:spPr>
              <a:xfrm>
                <a:off x="678600" y="1628640"/>
                <a:ext cx="3313800" cy="90108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" name="任意多边形 37"/>
              <p:cNvSpPr/>
              <p:nvPr/>
            </p:nvSpPr>
            <p:spPr>
              <a:xfrm rot="21180000">
                <a:off x="539640" y="1676520"/>
                <a:ext cx="3455640" cy="668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护理质量管理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912960" y="3054240"/>
            <a:ext cx="644400" cy="58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563840" y="2924280"/>
            <a:ext cx="0" cy="87156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901800" y="4299120"/>
            <a:ext cx="644400" cy="59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1552680" y="4168800"/>
            <a:ext cx="0" cy="87156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00000" y="5495760"/>
            <a:ext cx="644760" cy="5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1550880" y="5365800"/>
            <a:ext cx="0" cy="873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914400" y="1838160"/>
            <a:ext cx="644400" cy="587520"/>
          </a:xfrm>
          <a:prstGeom prst="rect">
            <a:avLst/>
          </a:prstGeom>
          <a:solidFill>
            <a:srgbClr val="fa7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565280" y="1706400"/>
            <a:ext cx="0" cy="871560"/>
          </a:xfrm>
          <a:prstGeom prst="line">
            <a:avLst/>
          </a:prstGeom>
          <a:ln w="28440">
            <a:solidFill>
              <a:srgbClr val="fa7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1584360" y="1701720"/>
            <a:ext cx="6780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Arial"/>
                <a:ea typeface="微软雅黑"/>
              </a:rPr>
              <a:t>制定护理质量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切实可行、可测量、随时修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584360" y="2921040"/>
            <a:ext cx="6780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99"/>
                </a:solidFill>
                <a:latin typeface="Arial"/>
                <a:ea typeface="微软雅黑"/>
              </a:rPr>
              <a:t>建立质量管理体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织结构的设置、工作流程优化和规范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工作过程的监控、终末质量监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1584360" y="4168800"/>
            <a:ext cx="646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微软雅黑"/>
              </a:rPr>
              <a:t>建立和完善护理质量文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岗位职责、各种标准和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1584360" y="5378400"/>
            <a:ext cx="7021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微软雅黑"/>
              </a:rPr>
              <a:t>制订和更新护理质量标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971640" y="1989000"/>
            <a:ext cx="7462800" cy="3338640"/>
            <a:chOff x="971640" y="1989000"/>
            <a:chExt cx="7462800" cy="3338640"/>
          </a:xfrm>
        </p:grpSpPr>
        <p:sp>
          <p:nvSpPr>
            <p:cNvPr id="247" name="Rectangle 10"/>
            <p:cNvSpPr/>
            <p:nvPr/>
          </p:nvSpPr>
          <p:spPr>
            <a:xfrm>
              <a:off x="981720" y="3341880"/>
              <a:ext cx="644400" cy="588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6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1632600" y="3210840"/>
              <a:ext cx="0" cy="8715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971640" y="4585680"/>
              <a:ext cx="644400" cy="590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7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621800" y="4456080"/>
              <a:ext cx="0" cy="871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984240" y="2125440"/>
              <a:ext cx="644400" cy="58824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Line 20"/>
            <p:cNvSpPr/>
            <p:nvPr/>
          </p:nvSpPr>
          <p:spPr>
            <a:xfrm>
              <a:off x="1634400" y="1994400"/>
              <a:ext cx="0" cy="87084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1653480" y="198900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cc"/>
                  </a:solidFill>
                  <a:latin typeface="Arial"/>
                  <a:ea typeface="微软雅黑"/>
                </a:rPr>
                <a:t>进行全面控制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各个要素、各个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1653480" y="320904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99"/>
                  </a:solidFill>
                  <a:latin typeface="Arial"/>
                  <a:ea typeface="微软雅黑"/>
                </a:rPr>
                <a:t>评价和持续改进护理质量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贯穿工作全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1653480" y="4456080"/>
              <a:ext cx="64609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  <a:ea typeface="微软雅黑"/>
                </a:rPr>
                <a:t>进行质量教育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增强全体护理人员的质量意识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468360" y="2205000"/>
            <a:ext cx="8373960" cy="3762000"/>
            <a:chOff x="468360" y="2205000"/>
            <a:chExt cx="8373960" cy="3762000"/>
          </a:xfrm>
        </p:grpSpPr>
        <p:grpSp>
          <p:nvGrpSpPr>
            <p:cNvPr id="258" name="椭圆 13"/>
            <p:cNvGrpSpPr/>
            <p:nvPr/>
          </p:nvGrpSpPr>
          <p:grpSpPr>
            <a:xfrm>
              <a:off x="4767480" y="4889160"/>
              <a:ext cx="1156680" cy="1077840"/>
              <a:chOff x="4767480" y="4889160"/>
              <a:chExt cx="1156680" cy="1077840"/>
            </a:xfrm>
          </p:grpSpPr>
          <p:pic>
            <p:nvPicPr>
              <p:cNvPr id="259" name="椭圆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7480" y="4889160"/>
                <a:ext cx="11566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5"/>
              <p:cNvSpPr/>
              <p:nvPr/>
            </p:nvSpPr>
            <p:spPr>
              <a:xfrm>
                <a:off x="4781520" y="4905000"/>
                <a:ext cx="112644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1" name="任意多边形 36"/>
            <p:cNvSpPr/>
            <p:nvPr/>
          </p:nvSpPr>
          <p:spPr>
            <a:xfrm flipH="1">
              <a:off x="528588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2" name="椭圆 12"/>
            <p:cNvGrpSpPr/>
            <p:nvPr/>
          </p:nvGrpSpPr>
          <p:grpSpPr>
            <a:xfrm>
              <a:off x="3346560" y="4889160"/>
              <a:ext cx="1152360" cy="1077840"/>
              <a:chOff x="3346560" y="4889160"/>
              <a:chExt cx="1152360" cy="1077840"/>
            </a:xfrm>
          </p:grpSpPr>
          <p:pic>
            <p:nvPicPr>
              <p:cNvPr id="263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6560" y="4889160"/>
                <a:ext cx="115236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33591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5" name="任意多边形 34"/>
            <p:cNvSpPr/>
            <p:nvPr/>
          </p:nvSpPr>
          <p:spPr>
            <a:xfrm>
              <a:off x="392328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6" name="椭圆 11"/>
            <p:cNvGrpSpPr/>
            <p:nvPr/>
          </p:nvGrpSpPr>
          <p:grpSpPr>
            <a:xfrm>
              <a:off x="1968480" y="4889160"/>
              <a:ext cx="1158840" cy="1077840"/>
              <a:chOff x="1968480" y="4889160"/>
              <a:chExt cx="1158840" cy="1077840"/>
            </a:xfrm>
          </p:grpSpPr>
          <p:pic>
            <p:nvPicPr>
              <p:cNvPr id="267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8480" y="4889160"/>
                <a:ext cx="115884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13"/>
              <p:cNvSpPr/>
              <p:nvPr/>
            </p:nvSpPr>
            <p:spPr>
              <a:xfrm>
                <a:off x="1986120" y="4905000"/>
                <a:ext cx="11268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任意多边形 32"/>
            <p:cNvSpPr/>
            <p:nvPr/>
          </p:nvSpPr>
          <p:spPr>
            <a:xfrm>
              <a:off x="253260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0" name="椭圆 10"/>
            <p:cNvGrpSpPr/>
            <p:nvPr/>
          </p:nvGrpSpPr>
          <p:grpSpPr>
            <a:xfrm>
              <a:off x="549360" y="4889160"/>
              <a:ext cx="1157400" cy="1077840"/>
              <a:chOff x="549360" y="4889160"/>
              <a:chExt cx="1157400" cy="1077840"/>
            </a:xfrm>
          </p:grpSpPr>
          <p:pic>
            <p:nvPicPr>
              <p:cNvPr id="271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17"/>
              <p:cNvSpPr/>
              <p:nvPr/>
            </p:nvSpPr>
            <p:spPr>
              <a:xfrm>
                <a:off x="5637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任意多边形 30"/>
            <p:cNvSpPr/>
            <p:nvPr/>
          </p:nvSpPr>
          <p:spPr>
            <a:xfrm>
              <a:off x="11271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4" name="椭圆 12"/>
            <p:cNvGrpSpPr/>
            <p:nvPr/>
          </p:nvGrpSpPr>
          <p:grpSpPr>
            <a:xfrm>
              <a:off x="6157080" y="4869000"/>
              <a:ext cx="1158480" cy="1077840"/>
              <a:chOff x="6157080" y="4869000"/>
              <a:chExt cx="1158480" cy="1077840"/>
            </a:xfrm>
          </p:grpSpPr>
          <p:pic>
            <p:nvPicPr>
              <p:cNvPr id="275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7080" y="4869000"/>
                <a:ext cx="11584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6169320" y="4884840"/>
                <a:ext cx="11286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7" name="任意多边形 20"/>
            <p:cNvSpPr/>
            <p:nvPr/>
          </p:nvSpPr>
          <p:spPr>
            <a:xfrm>
              <a:off x="67107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8" name="椭圆 13"/>
            <p:cNvGrpSpPr/>
            <p:nvPr/>
          </p:nvGrpSpPr>
          <p:grpSpPr>
            <a:xfrm>
              <a:off x="7553520" y="4889160"/>
              <a:ext cx="1157400" cy="1077840"/>
              <a:chOff x="7553520" y="4889160"/>
              <a:chExt cx="1157400" cy="1077840"/>
            </a:xfrm>
          </p:grpSpPr>
          <p:pic>
            <p:nvPicPr>
              <p:cNvPr id="279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25"/>
              <p:cNvSpPr/>
              <p:nvPr/>
            </p:nvSpPr>
            <p:spPr>
              <a:xfrm>
                <a:off x="756792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任意多边形 28"/>
            <p:cNvSpPr/>
            <p:nvPr/>
          </p:nvSpPr>
          <p:spPr>
            <a:xfrm flipH="1">
              <a:off x="8073000" y="3720960"/>
              <a:ext cx="3456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82" name="Group 27"/>
            <p:cNvGrpSpPr/>
            <p:nvPr/>
          </p:nvGrpSpPr>
          <p:grpSpPr>
            <a:xfrm>
              <a:off x="468360" y="2205000"/>
              <a:ext cx="8373960" cy="1875960"/>
              <a:chOff x="468360" y="2205000"/>
              <a:chExt cx="8373960" cy="1875960"/>
            </a:xfrm>
          </p:grpSpPr>
          <p:sp>
            <p:nvSpPr>
              <p:cNvPr id="283" name="KSO_GT4.1"/>
              <p:cNvSpPr/>
              <p:nvPr/>
            </p:nvSpPr>
            <p:spPr>
              <a:xfrm>
                <a:off x="45691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基于事实的决策方法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ata-based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4" name="KSO_GT3.1"/>
              <p:cNvSpPr/>
              <p:nvPr/>
            </p:nvSpPr>
            <p:spPr>
              <a:xfrm>
                <a:off x="3254400" y="2734920"/>
                <a:ext cx="132804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全员参与的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5" name="KSO_GT2.1"/>
              <p:cNvSpPr/>
              <p:nvPr/>
            </p:nvSpPr>
            <p:spPr>
              <a:xfrm>
                <a:off x="17827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预防为主的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o things right the first time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6" name="KSO_GT1.1"/>
              <p:cNvSpPr/>
              <p:nvPr/>
            </p:nvSpPr>
            <p:spPr>
              <a:xfrm>
                <a:off x="468360" y="2999880"/>
                <a:ext cx="132876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以患者为中心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7" name="KSO_GT3.1"/>
              <p:cNvSpPr/>
              <p:nvPr/>
            </p:nvSpPr>
            <p:spPr>
              <a:xfrm>
                <a:off x="6040080" y="2734920"/>
                <a:ext cx="132876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系统管理方法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KSO_GT4.1"/>
              <p:cNvSpPr/>
              <p:nvPr/>
            </p:nvSpPr>
            <p:spPr>
              <a:xfrm>
                <a:off x="735660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持续改进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（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4713120" y="1768320"/>
            <a:ext cx="54000" cy="3853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4349880" y="2165400"/>
            <a:ext cx="56880" cy="38527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468360" y="2276640"/>
            <a:ext cx="7848720" cy="3151080"/>
            <a:chOff x="468360" y="2276640"/>
            <a:chExt cx="7848720" cy="3151080"/>
          </a:xfrm>
        </p:grpSpPr>
        <p:sp>
          <p:nvSpPr>
            <p:cNvPr id="293" name="矩形 13"/>
            <p:cNvSpPr/>
            <p:nvPr/>
          </p:nvSpPr>
          <p:spPr>
            <a:xfrm>
              <a:off x="5346720" y="4640400"/>
              <a:ext cx="2965320" cy="78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严肃性、相对稳定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矩形 14"/>
            <p:cNvSpPr/>
            <p:nvPr/>
          </p:nvSpPr>
          <p:spPr>
            <a:xfrm>
              <a:off x="5351760" y="3635640"/>
              <a:ext cx="2965320" cy="787320"/>
            </a:xfrm>
            <a:prstGeom prst="rect">
              <a:avLst/>
            </a:prstGeom>
            <a:solidFill>
              <a:srgbClr val="4f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实用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矩形 12"/>
            <p:cNvSpPr/>
            <p:nvPr/>
          </p:nvSpPr>
          <p:spPr>
            <a:xfrm>
              <a:off x="468360" y="3283920"/>
              <a:ext cx="2935440" cy="787320"/>
            </a:xfrm>
            <a:prstGeom prst="rect">
              <a:avLst/>
            </a:pr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科学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矩形 4"/>
            <p:cNvSpPr/>
            <p:nvPr/>
          </p:nvSpPr>
          <p:spPr>
            <a:xfrm>
              <a:off x="468360" y="2276640"/>
              <a:ext cx="2935440" cy="788040"/>
            </a:xfrm>
            <a:prstGeom prst="rect">
              <a:avLst/>
            </a:prstGeom>
            <a:solidFill>
              <a:srgbClr val="f79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可衡量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Box 15"/>
            <p:cNvSpPr/>
            <p:nvPr/>
          </p:nvSpPr>
          <p:spPr>
            <a:xfrm>
              <a:off x="3362400" y="2349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79479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Box 16"/>
            <p:cNvSpPr/>
            <p:nvPr/>
          </p:nvSpPr>
          <p:spPr>
            <a:xfrm>
              <a:off x="3362400" y="33559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d44b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Box 17"/>
            <p:cNvSpPr/>
            <p:nvPr/>
          </p:nvSpPr>
          <p:spPr>
            <a:xfrm>
              <a:off x="4582080" y="37036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fbae8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Box 18"/>
            <p:cNvSpPr/>
            <p:nvPr/>
          </p:nvSpPr>
          <p:spPr>
            <a:xfrm>
              <a:off x="4582080" y="47124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1187280" y="1773360"/>
            <a:ext cx="7003800" cy="4276080"/>
            <a:chOff x="1187280" y="1773360"/>
            <a:chExt cx="7003800" cy="4276080"/>
          </a:xfrm>
        </p:grpSpPr>
        <p:sp>
          <p:nvSpPr>
            <p:cNvPr id="303" name="矩形 24"/>
            <p:cNvSpPr/>
            <p:nvPr/>
          </p:nvSpPr>
          <p:spPr>
            <a:xfrm>
              <a:off x="1187280" y="2842560"/>
              <a:ext cx="3541680" cy="1067760"/>
            </a:xfrm>
            <a:prstGeom prst="rect">
              <a:avLst/>
            </a:prstGeom>
            <a:solidFill>
              <a:srgbClr val="fff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拟定标准，进行验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矩形 26"/>
            <p:cNvSpPr/>
            <p:nvPr/>
          </p:nvSpPr>
          <p:spPr>
            <a:xfrm>
              <a:off x="4649400" y="1773360"/>
              <a:ext cx="3541680" cy="1069200"/>
            </a:xfrm>
            <a:prstGeom prst="rect">
              <a:avLst/>
            </a:prstGeom>
            <a:solidFill>
              <a:srgbClr val="f4f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调查研究、收集资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矩形 34"/>
            <p:cNvSpPr/>
            <p:nvPr/>
          </p:nvSpPr>
          <p:spPr>
            <a:xfrm>
              <a:off x="1187280" y="4981680"/>
              <a:ext cx="3541680" cy="10677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标准的修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矩形 36"/>
            <p:cNvSpPr/>
            <p:nvPr/>
          </p:nvSpPr>
          <p:spPr>
            <a:xfrm>
              <a:off x="4649400" y="3913920"/>
              <a:ext cx="3541680" cy="1067760"/>
            </a:xfrm>
            <a:prstGeom prst="rect">
              <a:avLst/>
            </a:prstGeom>
            <a:solidFill>
              <a:srgbClr val="de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审定、公布、实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护理质量管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20720" y="1773360"/>
            <a:ext cx="5545080" cy="4314240"/>
            <a:chOff x="1620720" y="1773360"/>
            <a:chExt cx="5545080" cy="4314240"/>
          </a:xfrm>
        </p:grpSpPr>
        <p:sp>
          <p:nvSpPr>
            <p:cNvPr id="310" name="任意多边形 11"/>
            <p:cNvSpPr/>
            <p:nvPr/>
          </p:nvSpPr>
          <p:spPr>
            <a:xfrm>
              <a:off x="2436480" y="177336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PDC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循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KSO_GT1"/>
            <p:cNvSpPr/>
            <p:nvPr/>
          </p:nvSpPr>
          <p:spPr>
            <a:xfrm>
              <a:off x="1621080" y="17733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任意多边形 12"/>
            <p:cNvSpPr/>
            <p:nvPr/>
          </p:nvSpPr>
          <p:spPr>
            <a:xfrm>
              <a:off x="2436480" y="266256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6Sigm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KSO_GT1"/>
            <p:cNvSpPr/>
            <p:nvPr/>
          </p:nvSpPr>
          <p:spPr>
            <a:xfrm>
              <a:off x="1621080" y="26625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任意多边形 14"/>
            <p:cNvSpPr/>
            <p:nvPr/>
          </p:nvSpPr>
          <p:spPr>
            <a:xfrm>
              <a:off x="2436480" y="355212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临床路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KSO_GT1"/>
            <p:cNvSpPr/>
            <p:nvPr/>
          </p:nvSpPr>
          <p:spPr>
            <a:xfrm>
              <a:off x="1621080" y="355212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任意多边形 8"/>
            <p:cNvSpPr/>
            <p:nvPr/>
          </p:nvSpPr>
          <p:spPr>
            <a:xfrm>
              <a:off x="2436480" y="444168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品管圈活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KSO_GT1"/>
            <p:cNvSpPr/>
            <p:nvPr/>
          </p:nvSpPr>
          <p:spPr>
            <a:xfrm>
              <a:off x="1621080" y="444168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任意多边形 11"/>
            <p:cNvSpPr/>
            <p:nvPr/>
          </p:nvSpPr>
          <p:spPr>
            <a:xfrm>
              <a:off x="2412360" y="537300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JCI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认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KSO_GT1"/>
            <p:cNvSpPr/>
            <p:nvPr/>
          </p:nvSpPr>
          <p:spPr>
            <a:xfrm>
              <a:off x="1620720" y="537300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5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68640" y="1382400"/>
            <a:ext cx="7803360" cy="4925880"/>
            <a:chOff x="368640" y="1382400"/>
            <a:chExt cx="7803360" cy="4925880"/>
          </a:xfrm>
        </p:grpSpPr>
        <p:sp>
          <p:nvSpPr>
            <p:cNvPr id="323" name="圆角矩形 26"/>
            <p:cNvSpPr/>
            <p:nvPr/>
          </p:nvSpPr>
          <p:spPr>
            <a:xfrm>
              <a:off x="1655280" y="2865960"/>
              <a:ext cx="6516720" cy="344232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圆角矩形 27"/>
            <p:cNvSpPr/>
            <p:nvPr/>
          </p:nvSpPr>
          <p:spPr>
            <a:xfrm>
              <a:off x="2001240" y="3013200"/>
              <a:ext cx="5888520" cy="30654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圆角矩形 30"/>
            <p:cNvSpPr/>
            <p:nvPr/>
          </p:nvSpPr>
          <p:spPr>
            <a:xfrm>
              <a:off x="2128680" y="3078360"/>
              <a:ext cx="5658120" cy="289692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称戴明环，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划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pla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执行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do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检查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check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处理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actio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个阶段的循环反复过程，是一种程序化、标准化、科学化的管理方式。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26" name="Group 8"/>
            <p:cNvGrpSpPr/>
            <p:nvPr/>
          </p:nvGrpSpPr>
          <p:grpSpPr>
            <a:xfrm>
              <a:off x="368640" y="1382400"/>
              <a:ext cx="3787560" cy="1507680"/>
              <a:chOff x="368640" y="1382400"/>
              <a:chExt cx="3787560" cy="1507680"/>
            </a:xfrm>
          </p:grpSpPr>
          <p:sp>
            <p:nvSpPr>
              <p:cNvPr id="327" name="任意多边形 23"/>
              <p:cNvSpPr/>
              <p:nvPr/>
            </p:nvSpPr>
            <p:spPr>
              <a:xfrm>
                <a:off x="1058400" y="2682000"/>
                <a:ext cx="837000" cy="20808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任意多边形 22"/>
              <p:cNvSpPr/>
              <p:nvPr/>
            </p:nvSpPr>
            <p:spPr>
              <a:xfrm>
                <a:off x="772560" y="2188800"/>
                <a:ext cx="648720" cy="55908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任意多边形 21"/>
              <p:cNvSpPr/>
              <p:nvPr/>
            </p:nvSpPr>
            <p:spPr>
              <a:xfrm>
                <a:off x="546480" y="1557360"/>
                <a:ext cx="3578040" cy="92880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0" name="任意多边形 37"/>
              <p:cNvSpPr/>
              <p:nvPr/>
            </p:nvSpPr>
            <p:spPr>
              <a:xfrm rot="21180000">
                <a:off x="396720" y="1607040"/>
                <a:ext cx="3731400" cy="689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循环定义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920" y="1371240"/>
            <a:ext cx="861048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Object 4"/>
          <p:cNvGraphicFramePr/>
          <p:nvPr/>
        </p:nvGraphicFramePr>
        <p:xfrm>
          <a:off x="1116000" y="1557360"/>
          <a:ext cx="655164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557360"/>
                    <a:ext cx="6551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完整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统一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4861080" y="1701720"/>
          <a:ext cx="36097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1080" y="1701720"/>
                    <a:ext cx="36097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识记：准确描述质量、质量管理及护理质量管理的概念；简述护理质量管理的任务及原则；阐述六西格玛管理、临床路径及品管圈活动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：解释质量观演变的四个历程及其特点；解释护理质量标准制定的原则及步骤；陈述护理评价指标及其内容；解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步骤、六西格玛管理实施步骤、临床路径及品管圈活动实施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：应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理论制定护理质量改进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5640" y="1701720"/>
            <a:ext cx="21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大环套小环，小环保，相互促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4284720" y="1773360"/>
          <a:ext cx="403848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40384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递进性，不断循环。不断提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3132000" y="2060640"/>
          <a:ext cx="522468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52246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含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gma”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“标准差” 的符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差是指任意一组数据或流程中离散或差异程度的指标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--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顾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允许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的质量特性的波动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“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的标准差” ，每百万个产品其质量的不良率少于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%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 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合格率达 </a:t>
            </a:r>
            <a:r>
              <a:rPr b="1" lang="en-US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99.9997%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测量就没有管理，量出”缺陷“是改进缺陷的前提，围绕缺陷开展质量改进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5940360" y="-19080"/>
            <a:ext cx="319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12720" y="1484280"/>
            <a:ext cx="7775640" cy="4681080"/>
            <a:chOff x="612720" y="1484280"/>
            <a:chExt cx="7775640" cy="4681080"/>
          </a:xfrm>
        </p:grpSpPr>
        <p:sp>
          <p:nvSpPr>
            <p:cNvPr id="351" name="Rectangle 10"/>
            <p:cNvSpPr/>
            <p:nvPr/>
          </p:nvSpPr>
          <p:spPr>
            <a:xfrm>
              <a:off x="625320" y="2880720"/>
              <a:ext cx="650160" cy="6076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1281960" y="2746080"/>
              <a:ext cx="0" cy="89892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Rectangle 13"/>
            <p:cNvSpPr/>
            <p:nvPr/>
          </p:nvSpPr>
          <p:spPr>
            <a:xfrm>
              <a:off x="614880" y="4164120"/>
              <a:ext cx="650160" cy="609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1271160" y="4030920"/>
              <a:ext cx="0" cy="898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Rectangle 16"/>
            <p:cNvSpPr/>
            <p:nvPr/>
          </p:nvSpPr>
          <p:spPr>
            <a:xfrm>
              <a:off x="612720" y="5399640"/>
              <a:ext cx="649800" cy="609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1269360" y="5266440"/>
              <a:ext cx="0" cy="89892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19"/>
            <p:cNvSpPr/>
            <p:nvPr/>
          </p:nvSpPr>
          <p:spPr>
            <a:xfrm>
              <a:off x="627840" y="1625040"/>
              <a:ext cx="650160" cy="60732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1283760" y="1490400"/>
              <a:ext cx="0" cy="89892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1303200" y="148428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Arial"/>
                  <a:ea typeface="微软雅黑"/>
                </a:rPr>
                <a:t>定义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确认患者需求，找出质量关键点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，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Rectangle 22"/>
            <p:cNvSpPr/>
            <p:nvPr/>
          </p:nvSpPr>
          <p:spPr>
            <a:xfrm>
              <a:off x="1303200" y="274356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统计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每月统计的工作量、 护理差错缺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Rectangle 23"/>
            <p:cNvSpPr/>
            <p:nvPr/>
          </p:nvSpPr>
          <p:spPr>
            <a:xfrm>
              <a:off x="1303200" y="4030920"/>
              <a:ext cx="651924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改进</a:t>
              </a:r>
              <a:r>
                <a:rPr b="0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后，找到根除和预防 缺陷发生的解决方案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Rectangle 24"/>
            <p:cNvSpPr/>
            <p:nvPr/>
          </p:nvSpPr>
          <p:spPr>
            <a:xfrm>
              <a:off x="1303200" y="5278680"/>
              <a:ext cx="70851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系统和组织的修正</a:t>
              </a:r>
              <a:r>
                <a:rPr b="0" lang="zh-CN" sz="2800" spc="-1" strike="noStrike">
                  <a:solidFill>
                    <a:srgbClr val="3582a3"/>
                  </a:solidFill>
                  <a:latin typeface="微软雅黑"/>
                  <a:ea typeface="微软雅黑"/>
                </a:rPr>
                <a:t>使改进制度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临床路径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(clinical pathway, C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针对特定病种或手术制订的临床诊断、治疗护理的规范性流程，起到规范专业行为、控制医疗服务差异、降低成本、保障质量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卫生部制定了呼吸内科、消化内科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个病种的临床路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品管圈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品管圈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 Circle, QC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就是由同一工作现场、工作性质相类似的基层人员，自动自发地进行品质管理活动，所组成的工作小组在自我和相互启发下，运用各种质量控制手法，对自己的工作现场不断进行改善的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护理质量评价与持续改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1622520" y="1773360"/>
            <a:ext cx="5398920" cy="3023640"/>
            <a:chOff x="1622520" y="1773360"/>
            <a:chExt cx="5398920" cy="3023640"/>
          </a:xfrm>
        </p:grpSpPr>
        <p:sp>
          <p:nvSpPr>
            <p:cNvPr id="371" name="任意多边形 11"/>
            <p:cNvSpPr/>
            <p:nvPr/>
          </p:nvSpPr>
          <p:spPr>
            <a:xfrm>
              <a:off x="2416320" y="177336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内容及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KSO_GT1"/>
            <p:cNvSpPr/>
            <p:nvPr/>
          </p:nvSpPr>
          <p:spPr>
            <a:xfrm>
              <a:off x="1622520" y="177336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任意多边形 12"/>
            <p:cNvSpPr/>
            <p:nvPr/>
          </p:nvSpPr>
          <p:spPr>
            <a:xfrm>
              <a:off x="2416320" y="2851920"/>
              <a:ext cx="4605120" cy="866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结果分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KSO_GT1"/>
            <p:cNvSpPr/>
            <p:nvPr/>
          </p:nvSpPr>
          <p:spPr>
            <a:xfrm>
              <a:off x="1622520" y="285192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任意多边形 14"/>
            <p:cNvSpPr/>
            <p:nvPr/>
          </p:nvSpPr>
          <p:spPr>
            <a:xfrm>
              <a:off x="2416320" y="393048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不良事件申报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KSO_GT1"/>
            <p:cNvSpPr/>
            <p:nvPr/>
          </p:nvSpPr>
          <p:spPr>
            <a:xfrm>
              <a:off x="1622520" y="393048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116000" y="1341360"/>
            <a:ext cx="6803640" cy="4222440"/>
            <a:chOff x="1116000" y="1341360"/>
            <a:chExt cx="6803640" cy="4222440"/>
          </a:xfrm>
        </p:grpSpPr>
        <p:sp>
          <p:nvSpPr>
            <p:cNvPr id="378" name="燕尾形箭头 1"/>
            <p:cNvSpPr/>
            <p:nvPr/>
          </p:nvSpPr>
          <p:spPr>
            <a:xfrm rot="16200000">
              <a:off x="3791880" y="2672640"/>
              <a:ext cx="1564920" cy="1623600"/>
            </a:xfrm>
            <a:custGeom>
              <a:avLst/>
              <a:gdLst>
                <a:gd name="textAreaLeft" fmla="*/ 342720 w 1564920"/>
                <a:gd name="textAreaRight" fmla="*/ 1222200 w 1564920"/>
                <a:gd name="textAreaTop" fmla="*/ 324360 h 1623600"/>
                <a:gd name="textAreaBottom" fmla="*/ 1299240 h 162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cd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燕尾形箭头 4"/>
            <p:cNvSpPr/>
            <p:nvPr/>
          </p:nvSpPr>
          <p:spPr>
            <a:xfrm>
              <a:off x="50590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91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0" name="燕尾形箭头 5"/>
            <p:cNvSpPr/>
            <p:nvPr/>
          </p:nvSpPr>
          <p:spPr>
            <a:xfrm flipH="1">
              <a:off x="25192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9a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" name="TextBox 7"/>
            <p:cNvSpPr/>
            <p:nvPr/>
          </p:nvSpPr>
          <p:spPr>
            <a:xfrm>
              <a:off x="3803400" y="453240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护理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" name="TextBox 8"/>
            <p:cNvSpPr/>
            <p:nvPr/>
          </p:nvSpPr>
          <p:spPr>
            <a:xfrm>
              <a:off x="1116000" y="4149000"/>
              <a:ext cx="160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要素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Box 8"/>
            <p:cNvSpPr/>
            <p:nvPr/>
          </p:nvSpPr>
          <p:spPr>
            <a:xfrm>
              <a:off x="3924000" y="1341360"/>
              <a:ext cx="1440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环节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4" name="TextBox 8"/>
            <p:cNvSpPr/>
            <p:nvPr/>
          </p:nvSpPr>
          <p:spPr>
            <a:xfrm>
              <a:off x="6588360" y="4077000"/>
              <a:ext cx="133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终末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评价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要素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构成护理服务要素质量各方面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：安全、清洁、舒适、温度、湿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：数量、业务、技术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械、设备：齐全、功能完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章制度和标准：是否齐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房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护理文件书写是否完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要素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考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问卷调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查阅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403280" y="1773360"/>
            <a:ext cx="5113080" cy="3887640"/>
            <a:chOff x="1403280" y="1773360"/>
            <a:chExt cx="5113080" cy="3887640"/>
          </a:xfrm>
        </p:grpSpPr>
        <p:sp>
          <p:nvSpPr>
            <p:cNvPr id="164" name="任意多边形 11"/>
            <p:cNvSpPr/>
            <p:nvPr/>
          </p:nvSpPr>
          <p:spPr>
            <a:xfrm>
              <a:off x="2154960" y="177336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KSO_GT1"/>
            <p:cNvSpPr/>
            <p:nvPr/>
          </p:nvSpPr>
          <p:spPr>
            <a:xfrm>
              <a:off x="1403280" y="177336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任意多边形 12"/>
            <p:cNvSpPr/>
            <p:nvPr/>
          </p:nvSpPr>
          <p:spPr>
            <a:xfrm>
              <a:off x="2154960" y="279540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KSO_GT1"/>
            <p:cNvSpPr/>
            <p:nvPr/>
          </p:nvSpPr>
          <p:spPr>
            <a:xfrm>
              <a:off x="1403280" y="279540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任意多边形 14"/>
            <p:cNvSpPr/>
            <p:nvPr/>
          </p:nvSpPr>
          <p:spPr>
            <a:xfrm>
              <a:off x="2154960" y="381708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KSO_GT1"/>
            <p:cNvSpPr/>
            <p:nvPr/>
          </p:nvSpPr>
          <p:spPr>
            <a:xfrm>
              <a:off x="1403280" y="38170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任意多边形 8"/>
            <p:cNvSpPr/>
            <p:nvPr/>
          </p:nvSpPr>
          <p:spPr>
            <a:xfrm>
              <a:off x="2154960" y="483948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评价与持续改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KSO_GT1"/>
            <p:cNvSpPr/>
            <p:nvPr/>
          </p:nvSpPr>
          <p:spPr>
            <a:xfrm>
              <a:off x="1403280" y="48394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对护理过程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执行医嘱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情观察及治疗结果反应观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管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文书书写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用护理程序步骤和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、健康教育开展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：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755640" y="2852640"/>
          <a:ext cx="69343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69343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终末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终末评价是对护理服务最终结果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例如：患者压疮发生率、事故发生次数、静脉穿刺成功率、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价方法：问卷调查、护理查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286560" y="937800"/>
            <a:ext cx="8833320" cy="4723920"/>
            <a:chOff x="286560" y="937800"/>
            <a:chExt cx="8833320" cy="4723920"/>
          </a:xfrm>
        </p:grpSpPr>
        <p:sp>
          <p:nvSpPr>
            <p:cNvPr id="399" name="圆角矩形 27"/>
            <p:cNvSpPr/>
            <p:nvPr/>
          </p:nvSpPr>
          <p:spPr>
            <a:xfrm rot="972000">
              <a:off x="2700000" y="292428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圆角矩形 28"/>
            <p:cNvSpPr/>
            <p:nvPr/>
          </p:nvSpPr>
          <p:spPr>
            <a:xfrm rot="972000">
              <a:off x="2650320" y="361260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因果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弧形 3"/>
            <p:cNvSpPr/>
            <p:nvPr/>
          </p:nvSpPr>
          <p:spPr>
            <a:xfrm rot="19692600">
              <a:off x="431640" y="2412360"/>
              <a:ext cx="1933560" cy="1101600"/>
            </a:xfrm>
            <a:custGeom>
              <a:avLst/>
              <a:gdLst/>
              <a:ahLst/>
              <a:rect l="l" t="t" r="r" b="b"/>
              <a:pathLst>
                <a:path stroke="0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  <a:lnTo>
                    <a:pt x="966788" y="550863"/>
                  </a:lnTo>
                  <a:lnTo>
                    <a:pt x="1000971" y="344"/>
                  </a:lnTo>
                  <a:close/>
                </a:path>
                <a:path fill="none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rot="1735200">
              <a:off x="1483920" y="2373120"/>
              <a:ext cx="1182240" cy="2439720"/>
            </a:xfrm>
            <a:custGeom>
              <a:avLst/>
              <a:gdLst>
                <a:gd name="textAreaLeft" fmla="*/ 57600 w 1182240"/>
                <a:gd name="textAreaRight" fmla="*/ 1124640 w 118224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68">
                  <a:moveTo>
                    <a:pt x="3600" y="0"/>
                  </a:moveTo>
                  <a:arcTo wR="3600" hR="3600" stAng="16200000" swAng="-5400000"/>
                  <a:lnTo>
                    <a:pt x="0" y="40968"/>
                  </a:lnTo>
                  <a:arcTo wR="3600" hR="3600" stAng="10800000" swAng="-5400000"/>
                  <a:lnTo>
                    <a:pt x="18000" y="44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圆角矩形 25"/>
            <p:cNvSpPr/>
            <p:nvPr/>
          </p:nvSpPr>
          <p:spPr>
            <a:xfrm rot="1735200">
              <a:off x="1428120" y="304164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调查表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椭圆 4"/>
            <p:cNvSpPr/>
            <p:nvPr/>
          </p:nvSpPr>
          <p:spPr>
            <a:xfrm rot="21573000">
              <a:off x="2154960" y="2376720"/>
              <a:ext cx="139680" cy="13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弧形 35"/>
            <p:cNvSpPr/>
            <p:nvPr/>
          </p:nvSpPr>
          <p:spPr>
            <a:xfrm rot="21573000">
              <a:off x="1156680" y="1920960"/>
              <a:ext cx="1061640" cy="5508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圆角矩形 19"/>
            <p:cNvSpPr/>
            <p:nvPr/>
          </p:nvSpPr>
          <p:spPr>
            <a:xfrm rot="310200">
              <a:off x="3936240" y="317376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圆角矩形 20"/>
            <p:cNvSpPr/>
            <p:nvPr/>
          </p:nvSpPr>
          <p:spPr>
            <a:xfrm rot="310200">
              <a:off x="3997080" y="3860280"/>
              <a:ext cx="1022040" cy="161460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4600"/>
                <a:gd name="textAreaBottom" fmla="*/ 1564920 h 1614600"/>
              </a:gdLst>
              <a:ahLst/>
              <a:rect l="textAreaLeft" t="textAreaTop" r="textAreaRight" b="textAreaBottom"/>
              <a:pathLst>
                <a:path w="21600" h="34119">
                  <a:moveTo>
                    <a:pt x="3600" y="0"/>
                  </a:moveTo>
                  <a:arcTo wR="3600" hR="3600" stAng="16200000" swAng="-5400000"/>
                  <a:lnTo>
                    <a:pt x="0" y="30519"/>
                  </a:lnTo>
                  <a:arcTo wR="3600" hR="3600" stAng="10800000" swAng="-5400000"/>
                  <a:lnTo>
                    <a:pt x="18000" y="34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排列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圆角矩形 23"/>
            <p:cNvSpPr/>
            <p:nvPr/>
          </p:nvSpPr>
          <p:spPr>
            <a:xfrm rot="20865000">
              <a:off x="5317560" y="3108240"/>
              <a:ext cx="1182600" cy="244008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40080"/>
                <a:gd name="textAreaBottom" fmla="*/ 2382480 h 2440080"/>
              </a:gdLst>
              <a:ahLst/>
              <a:rect l="textAreaLeft" t="textAreaTop" r="textAreaRight" b="textAreaBottom"/>
              <a:pathLst>
                <a:path w="21600" h="44561">
                  <a:moveTo>
                    <a:pt x="3600" y="0"/>
                  </a:moveTo>
                  <a:arcTo wR="3600" hR="3600" stAng="16200000" swAng="-5400000"/>
                  <a:lnTo>
                    <a:pt x="0" y="40961"/>
                  </a:lnTo>
                  <a:arcTo wR="3600" hR="3600" stAng="10800000" swAng="-5400000"/>
                  <a:lnTo>
                    <a:pt x="18000" y="4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圆角矩形 24"/>
            <p:cNvSpPr/>
            <p:nvPr/>
          </p:nvSpPr>
          <p:spPr>
            <a:xfrm rot="20865000">
              <a:off x="5449320" y="380556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直方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弧形 41"/>
            <p:cNvSpPr/>
            <p:nvPr/>
          </p:nvSpPr>
          <p:spPr>
            <a:xfrm flipH="1" flipV="1" rot="19609800">
              <a:off x="6872040" y="1424520"/>
              <a:ext cx="2114280" cy="1117440"/>
            </a:xfrm>
            <a:custGeom>
              <a:avLst/>
              <a:gdLst/>
              <a:ahLst/>
              <a:rect l="l" t="t" r="r" b="b"/>
              <a:pathLst>
                <a:path stroke="0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  <a:lnTo>
                    <a:pt x="1057275" y="558800"/>
                  </a:lnTo>
                  <a:lnTo>
                    <a:pt x="1091954" y="301"/>
                  </a:lnTo>
                  <a:close/>
                </a:path>
                <a:path fill="none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圆角矩形 38"/>
            <p:cNvSpPr/>
            <p:nvPr/>
          </p:nvSpPr>
          <p:spPr>
            <a:xfrm rot="19960200">
              <a:off x="6498720" y="248112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圆角矩形 39"/>
            <p:cNvSpPr/>
            <p:nvPr/>
          </p:nvSpPr>
          <p:spPr>
            <a:xfrm rot="19960200">
              <a:off x="6716160" y="314784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控制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椭圆 42"/>
            <p:cNvSpPr/>
            <p:nvPr/>
          </p:nvSpPr>
          <p:spPr>
            <a:xfrm rot="523800">
              <a:off x="6903720" y="2482920"/>
              <a:ext cx="13932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弧形 35"/>
            <p:cNvSpPr/>
            <p:nvPr/>
          </p:nvSpPr>
          <p:spPr>
            <a:xfrm flipH="1" rot="524400">
              <a:off x="7024680" y="2103840"/>
              <a:ext cx="1123560" cy="5616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评价结果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019320" y="1174680"/>
            <a:ext cx="4578120" cy="4343040"/>
            <a:chOff x="3019320" y="1174680"/>
            <a:chExt cx="4578120" cy="4343040"/>
          </a:xfrm>
        </p:grpSpPr>
        <p:sp>
          <p:nvSpPr>
            <p:cNvPr id="417" name="任意多边形 6"/>
            <p:cNvSpPr/>
            <p:nvPr/>
          </p:nvSpPr>
          <p:spPr>
            <a:xfrm>
              <a:off x="5287680" y="1174680"/>
              <a:ext cx="1328040" cy="93276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f9a9a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任意多边形 4"/>
            <p:cNvSpPr/>
            <p:nvPr/>
          </p:nvSpPr>
          <p:spPr>
            <a:xfrm>
              <a:off x="3019320" y="2196720"/>
              <a:ext cx="3974040" cy="2795760"/>
            </a:xfrm>
            <a:prstGeom prst="pie">
              <a:avLst/>
            </a:prstGeom>
            <a:solidFill>
              <a:srgbClr val="c6d2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324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THANKS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任意多边形 5"/>
            <p:cNvSpPr/>
            <p:nvPr/>
          </p:nvSpPr>
          <p:spPr>
            <a:xfrm flipH="1">
              <a:off x="5842800" y="1737000"/>
              <a:ext cx="1754640" cy="123372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52d8d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文本框 8"/>
            <p:cNvSpPr/>
            <p:nvPr/>
          </p:nvSpPr>
          <p:spPr>
            <a:xfrm>
              <a:off x="4333680" y="5112000"/>
              <a:ext cx="272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LJXU</a:t>
              </a:r>
              <a:r>
                <a:rPr b="0" lang="en-US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@</a:t>
              </a: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YBU.EDU.CN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a6a6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质量管理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180440" y="1989000"/>
            <a:ext cx="6855840" cy="3298320"/>
            <a:chOff x="1180440" y="1989000"/>
            <a:chExt cx="6855840" cy="3298320"/>
          </a:xfrm>
        </p:grpSpPr>
        <p:sp>
          <p:nvSpPr>
            <p:cNvPr id="175" name="直接连接符​​ 11"/>
            <p:cNvSpPr/>
            <p:nvPr/>
          </p:nvSpPr>
          <p:spPr>
            <a:xfrm flipV="1">
              <a:off x="1713960" y="2181600"/>
              <a:ext cx="1302120" cy="118620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直接连接符​​ 13"/>
            <p:cNvSpPr/>
            <p:nvPr/>
          </p:nvSpPr>
          <p:spPr>
            <a:xfrm>
              <a:off x="3213000" y="2181960"/>
              <a:ext cx="543600" cy="97452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椭圆​​ 4"/>
            <p:cNvSpPr/>
            <p:nvPr/>
          </p:nvSpPr>
          <p:spPr>
            <a:xfrm>
              <a:off x="294480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9ed561"/>
                </a:gs>
                <a:gs pos="100000">
                  <a:srgbClr val="ceea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椭圆​​ 6"/>
            <p:cNvSpPr/>
            <p:nvPr/>
          </p:nvSpPr>
          <p:spPr>
            <a:xfrm>
              <a:off x="3016080" y="2069640"/>
              <a:ext cx="196560" cy="222120"/>
            </a:xfrm>
            <a:prstGeom prst="ellipse">
              <a:avLst/>
            </a:prstGeom>
            <a:solidFill>
              <a:srgbClr val="6ea92d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任意多边形 39"/>
            <p:cNvSpPr/>
            <p:nvPr/>
          </p:nvSpPr>
          <p:spPr>
            <a:xfrm rot="21294600">
              <a:off x="126000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bee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圆角矩形​​ 3"/>
            <p:cNvSpPr/>
            <p:nvPr/>
          </p:nvSpPr>
          <p:spPr>
            <a:xfrm rot="21283200">
              <a:off x="1396440" y="3414600"/>
              <a:ext cx="2753280" cy="158688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管理的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相关概念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椭圆​​ 8"/>
            <p:cNvSpPr/>
            <p:nvPr/>
          </p:nvSpPr>
          <p:spPr>
            <a:xfrm rot="21283200">
              <a:off x="1657080" y="3368520"/>
              <a:ext cx="124560" cy="14004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椭圆​​ 9"/>
            <p:cNvSpPr/>
            <p:nvPr/>
          </p:nvSpPr>
          <p:spPr>
            <a:xfrm rot="21283200">
              <a:off x="3700080" y="3156840"/>
              <a:ext cx="125280" cy="14040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直接连接符​​ 11"/>
            <p:cNvSpPr/>
            <p:nvPr/>
          </p:nvSpPr>
          <p:spPr>
            <a:xfrm flipH="1" flipV="1">
              <a:off x="6200280" y="2181600"/>
              <a:ext cx="1302120" cy="118620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直接连接符​​ 13"/>
            <p:cNvSpPr/>
            <p:nvPr/>
          </p:nvSpPr>
          <p:spPr>
            <a:xfrm flipH="1">
              <a:off x="5460120" y="2181960"/>
              <a:ext cx="543600" cy="97452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椭圆​​ 4"/>
            <p:cNvSpPr/>
            <p:nvPr/>
          </p:nvSpPr>
          <p:spPr>
            <a:xfrm flipH="1">
              <a:off x="593064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椭圆​​ 6"/>
            <p:cNvSpPr/>
            <p:nvPr/>
          </p:nvSpPr>
          <p:spPr>
            <a:xfrm flipH="1">
              <a:off x="6004080" y="2069640"/>
              <a:ext cx="196560" cy="222120"/>
            </a:xfrm>
            <a:prstGeom prst="ellipse">
              <a:avLst/>
            </a:prstGeom>
            <a:solidFill>
              <a:srgbClr val="e2ac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任意多边形 46"/>
            <p:cNvSpPr/>
            <p:nvPr/>
          </p:nvSpPr>
          <p:spPr>
            <a:xfrm flipH="1" rot="305400">
              <a:off x="493992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ffe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圆角矩形​​ 3"/>
            <p:cNvSpPr/>
            <p:nvPr/>
          </p:nvSpPr>
          <p:spPr>
            <a:xfrm flipH="1" rot="316800">
              <a:off x="5065200" y="3414600"/>
              <a:ext cx="2753280" cy="158724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d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观的演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椭圆​​ 8"/>
            <p:cNvSpPr/>
            <p:nvPr/>
          </p:nvSpPr>
          <p:spPr>
            <a:xfrm flipH="1" rot="316800">
              <a:off x="7435800" y="3368520"/>
              <a:ext cx="125280" cy="14004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椭圆​​ 9"/>
            <p:cNvSpPr/>
            <p:nvPr/>
          </p:nvSpPr>
          <p:spPr>
            <a:xfrm flipH="1" rot="316800">
              <a:off x="5392800" y="3156840"/>
              <a:ext cx="124560" cy="14076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品或服务的优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意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组织及其员工对待质量的态度和信念，自觉地保证工作质量和服务质量的意志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为使服务质量满足质量要求，开展的策划、组织、实施、控制、检查、审核及改进有关活动的总和，包括质量策划、质量控制、质量保证和质量改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策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确定质量目标和要求、规定必要运行过程和相关资源的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影响服务质量的各环节、各因素制订相应的监控计划和程序，对发现的问题采取纠正措施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保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部质量保证：对组织的管理者提供信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部质量保证：向顾客提供信任，展示组织具备满足其要求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改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质量效果和效率的活动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持续质量改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D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539640" y="1773360"/>
            <a:ext cx="7991640" cy="4479840"/>
            <a:chOff x="539640" y="1773360"/>
            <a:chExt cx="7991640" cy="4479840"/>
          </a:xfrm>
        </p:grpSpPr>
        <p:sp>
          <p:nvSpPr>
            <p:cNvPr id="198" name="椭圆 15"/>
            <p:cNvSpPr/>
            <p:nvPr/>
          </p:nvSpPr>
          <p:spPr>
            <a:xfrm>
              <a:off x="6689520" y="2390040"/>
              <a:ext cx="1841760" cy="1744560"/>
            </a:xfrm>
            <a:prstGeom prst="ellipse">
              <a:avLst/>
            </a:prstGeom>
            <a:solidFill>
              <a:srgbClr val="ff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椭圆 16"/>
            <p:cNvSpPr/>
            <p:nvPr/>
          </p:nvSpPr>
          <p:spPr>
            <a:xfrm>
              <a:off x="6751080" y="2430000"/>
              <a:ext cx="1709280" cy="153936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卓越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0" name="椭圆 17" descr=""/>
            <p:cNvPicPr/>
            <p:nvPr/>
          </p:nvPicPr>
          <p:blipFill>
            <a:blip r:embed="rId1"/>
            <a:stretch/>
          </p:blipFill>
          <p:spPr>
            <a:xfrm>
              <a:off x="7045560" y="1773360"/>
              <a:ext cx="895320" cy="11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椭圆 5"/>
            <p:cNvSpPr/>
            <p:nvPr/>
          </p:nvSpPr>
          <p:spPr>
            <a:xfrm rot="18240000">
              <a:off x="4652640" y="2943720"/>
              <a:ext cx="2140560" cy="201240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b64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椭圆 19"/>
            <p:cNvSpPr/>
            <p:nvPr/>
          </p:nvSpPr>
          <p:spPr>
            <a:xfrm>
              <a:off x="4709160" y="3193560"/>
              <a:ext cx="157788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满意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3" name="椭圆 20" descr=""/>
            <p:cNvPicPr/>
            <p:nvPr/>
          </p:nvPicPr>
          <p:blipFill>
            <a:blip r:embed="rId2"/>
            <a:stretch/>
          </p:blipFill>
          <p:spPr>
            <a:xfrm>
              <a:off x="5029560" y="2563920"/>
              <a:ext cx="89532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椭圆 5"/>
            <p:cNvSpPr/>
            <p:nvPr/>
          </p:nvSpPr>
          <p:spPr>
            <a:xfrm rot="18180000">
              <a:off x="2545200" y="3799800"/>
              <a:ext cx="2139840" cy="201456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ffb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椭圆 22"/>
            <p:cNvSpPr/>
            <p:nvPr/>
          </p:nvSpPr>
          <p:spPr>
            <a:xfrm>
              <a:off x="2611440" y="4071240"/>
              <a:ext cx="157860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适用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6" name="椭圆 5" descr=""/>
            <p:cNvPicPr/>
            <p:nvPr/>
          </p:nvPicPr>
          <p:blipFill>
            <a:blip r:embed="rId3"/>
            <a:stretch/>
          </p:blipFill>
          <p:spPr>
            <a:xfrm>
              <a:off x="539640" y="2784960"/>
              <a:ext cx="2120400" cy="210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椭圆 31"/>
            <p:cNvSpPr/>
            <p:nvPr/>
          </p:nvSpPr>
          <p:spPr>
            <a:xfrm>
              <a:off x="624240" y="2841120"/>
              <a:ext cx="1578600" cy="161820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符合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8" name="椭圆 33" descr=""/>
            <p:cNvPicPr/>
            <p:nvPr/>
          </p:nvPicPr>
          <p:blipFill>
            <a:blip r:embed="rId4"/>
            <a:stretch/>
          </p:blipFill>
          <p:spPr>
            <a:xfrm>
              <a:off x="1193040" y="2307600"/>
              <a:ext cx="89748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椭圆 35" descr=""/>
            <p:cNvPicPr/>
            <p:nvPr/>
          </p:nvPicPr>
          <p:blipFill>
            <a:blip r:embed="rId5"/>
            <a:stretch/>
          </p:blipFill>
          <p:spPr>
            <a:xfrm>
              <a:off x="2907000" y="3464640"/>
              <a:ext cx="896040" cy="112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观的演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护理质量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1909800" y="1773360"/>
            <a:ext cx="5472000" cy="3960720"/>
            <a:chOff x="1909800" y="1773360"/>
            <a:chExt cx="5472000" cy="3960720"/>
          </a:xfrm>
        </p:grpSpPr>
        <p:sp>
          <p:nvSpPr>
            <p:cNvPr id="214" name="任意多边形 11"/>
            <p:cNvSpPr/>
            <p:nvPr/>
          </p:nvSpPr>
          <p:spPr>
            <a:xfrm>
              <a:off x="2714400" y="177336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KSO_GT1"/>
            <p:cNvSpPr/>
            <p:nvPr/>
          </p:nvSpPr>
          <p:spPr>
            <a:xfrm>
              <a:off x="1909800" y="177336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任意多边形 12"/>
            <p:cNvSpPr/>
            <p:nvPr/>
          </p:nvSpPr>
          <p:spPr>
            <a:xfrm>
              <a:off x="2714400" y="28144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任务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KSO_GT1"/>
            <p:cNvSpPr/>
            <p:nvPr/>
          </p:nvSpPr>
          <p:spPr>
            <a:xfrm>
              <a:off x="1909800" y="28144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任意多边形 14"/>
            <p:cNvSpPr/>
            <p:nvPr/>
          </p:nvSpPr>
          <p:spPr>
            <a:xfrm>
              <a:off x="2714400" y="385560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KSO_GT1"/>
            <p:cNvSpPr/>
            <p:nvPr/>
          </p:nvSpPr>
          <p:spPr>
            <a:xfrm>
              <a:off x="1909800" y="385560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任意多边形 8"/>
            <p:cNvSpPr/>
            <p:nvPr/>
          </p:nvSpPr>
          <p:spPr>
            <a:xfrm>
              <a:off x="2714400" y="48970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标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KSO_GT1"/>
            <p:cNvSpPr/>
            <p:nvPr/>
          </p:nvSpPr>
          <p:spPr>
            <a:xfrm>
              <a:off x="1909800" y="48970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3T01:45:5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